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640-A1A3-4C88-8D95-7CDD36FF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2AC-04A5-41FD-B49B-7AF66D96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1E6-D364-421E-882C-FC350F11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7B9-E652-487A-A5CB-E3598EC4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493-3189-4438-9FAA-CA7BDED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09A-4871-45A5-A889-FC59233D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171-9F1F-45E0-84A7-78013BA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D62-A1A1-4465-9BEC-DDB8050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346-775E-450E-BA7A-D6A9C74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C13-17B2-4BEE-B98F-D2440B1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04A-66AE-4AFE-A36B-BE3423E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129-CEDC-439E-8232-AFE279D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B10-C200-4DEE-B021-0CE7F097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uecross.org.uk/web/site/home/home.a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itting dog"/>
          <p:cNvPicPr/>
          <p:nvPr/>
        </p:nvPicPr>
        <p:blipFill>
          <a:blip r:embed="rId1"/>
          <a:stretch/>
        </p:blipFill>
        <p:spPr>
          <a:xfrm>
            <a:off x="1979640" y="4162320"/>
            <a:ext cx="1584360" cy="269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89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9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he Blue Cross Britain's pet charity">
            <a:hlinkClick r:id="rId2"/>
          </p:cNvPr>
          <p:cNvPicPr/>
          <p:nvPr/>
        </p:nvPicPr>
        <p:blipFill>
          <a:blip r:embed="rId3"/>
          <a:stretch/>
        </p:blipFill>
        <p:spPr>
          <a:xfrm rot="20917200">
            <a:off x="6084720" y="3141720"/>
            <a:ext cx="1872000" cy="31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1054000">
            <a:off x="684360" y="549000"/>
            <a:ext cx="7881840" cy="30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lue cross</a:t>
            </a:r>
            <a:endParaRPr b="0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at is the blue cross? wel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lue cross Is a charity for abused and abandoned animals. I will put posters up to keep people involved! And making people more aware that its out t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Fundraisin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y ideas for the fundraisings are some simple one, like selling raffle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 run cross country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ngs we could do are guess how many sweets in a 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things and sell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 sponsored game of football or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ts band to play gigs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ill support my charity by raising money, helping to organize events, get as many people involved as possibl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helping with anything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20983800">
            <a:off x="684360" y="549360"/>
            <a:ext cx="77054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will I support this charit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43:12Z</dcterms:created>
  <dc:creator>Gary Roach</dc:creator>
  <dc:description/>
  <dc:language>en-US</dc:language>
  <cp:lastModifiedBy>nb</cp:lastModifiedBy>
  <dcterms:modified xsi:type="dcterms:W3CDTF">2007-12-06T08:53:08Z</dcterms:modified>
  <cp:revision>2</cp:revision>
  <dc:subject/>
  <dc:title>Blue cross</dc:title>
</cp:coreProperties>
</file>